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101-0DFB-4281-B560-2996F6D6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FD1-043D-40DF-ACFB-32A0C561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CA9-3F35-4010-9474-82AC0413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0A0-7077-40E2-8FB1-DE8581A6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44F-4103-4463-A971-AAAEC03A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12F-F7D7-4F27-938A-12A89531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E95-6BFB-4947-A8D5-D4EA0EF2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291-ED6D-4398-BC43-89699720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6FD-C8F8-4B09-95F6-4DCEBC0B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F32-48EC-4C89-B4F8-78361EF5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636-4D3B-4C77-A777-A86E7078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505-5242-46DC-85BA-86F631EF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48E1-4600-4C12-979E-548835819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ntroduction to Psychological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ule 2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Views of Mental Ill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cient times, mental illness was usually explained through a supernatural model; the person was possessed or a s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ring the Middle Ages treatment methods were inhumane and cr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ilippe Pinel (1745-182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nch physician who worked to reform the treatment of people with mental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ed more humane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Blair-Broeker_29UN04"/>
          <p:cNvPicPr/>
          <p:nvPr/>
        </p:nvPicPr>
        <p:blipFill>
          <a:blip r:embed="rId1"/>
          <a:stretch/>
        </p:blipFill>
        <p:spPr>
          <a:xfrm>
            <a:off x="2133720" y="3505320"/>
            <a:ext cx="50292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derstanding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Medical Mode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29: Introduction to Psychologic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dic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ept that mental illnesses have physical causes that can be diagnosed, treated, and in most cases, cu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ychological disorders can be diagnosed based on their symptoms and treated or cured through therap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ychological disorders are similar to a physical ill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derstanding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io-Psycho-Social Mode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29: Introduction to Psychologic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-Psycho-Soci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mporary perspective that assumes biological, psychological, and sociocultural factors combine and interact to produce psychological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-Psycho-Social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Blair-Broeker_fig"/>
          <p:cNvPicPr/>
          <p:nvPr/>
        </p:nvPicPr>
        <p:blipFill>
          <a:blip r:embed="rId1"/>
          <a:stretch/>
        </p:blipFill>
        <p:spPr>
          <a:xfrm>
            <a:off x="762120" y="1219320"/>
            <a:ext cx="75438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assifying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29: Introduction to Psychologic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agnostic and Statistical Manual of Mental Disorders – Four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xt of the DSM-IV was recently revised, hence “TR” at 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lair-Broeker_29UN05"/>
          <p:cNvPicPr/>
          <p:nvPr/>
        </p:nvPicPr>
        <p:blipFill>
          <a:blip r:embed="rId1"/>
          <a:stretch/>
        </p:blipFill>
        <p:spPr>
          <a:xfrm>
            <a:off x="5334120" y="1600200"/>
            <a:ext cx="3449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blished by the American Psychiatric Assoc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s and describes all the currently accepted categories of mental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lair-Broeker_29UN05"/>
          <p:cNvPicPr/>
          <p:nvPr/>
        </p:nvPicPr>
        <p:blipFill>
          <a:blip r:embed="rId1"/>
          <a:stretch/>
        </p:blipFill>
        <p:spPr>
          <a:xfrm>
            <a:off x="5334120" y="1598760"/>
            <a:ext cx="3449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efining Disord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29: Introduction to Psychologic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s mental disorders into 17 major categ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s the symptoms but not the causes of each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s changed significantly since the first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 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 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67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2895480"/>
            <a:ext cx="914400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0" y="3962520"/>
            <a:ext cx="914400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 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M-IV-TR 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lair-Broeker_table"/>
          <p:cNvPicPr/>
          <p:nvPr/>
        </p:nvPicPr>
        <p:blipFill>
          <a:blip r:embed="rId1"/>
          <a:stretch/>
        </p:blipFill>
        <p:spPr>
          <a:xfrm>
            <a:off x="2133720" y="838080"/>
            <a:ext cx="46638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beling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29: Introduction to Psychologic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ing Stig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ies show a clear bias against people diagnosed with mental disord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lair-Broeker_29UN07"/>
          <p:cNvPicPr/>
          <p:nvPr/>
        </p:nvPicPr>
        <p:blipFill>
          <a:blip r:embed="rId1"/>
          <a:stretch/>
        </p:blipFill>
        <p:spPr>
          <a:xfrm>
            <a:off x="2133720" y="3102120"/>
            <a:ext cx="4876560" cy="3375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138760" y="6491160"/>
            <a:ext cx="49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as Eagleton and George McGovern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logical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harmful dysfunction” in which behaviors are maladaptive, unjustifiable, disturbing, and atyp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ladap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exaggeration of normal, acceptable behavi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tructive to oneself or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justif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behavior which does not have a rational b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ur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behavior which is troublesome to other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yp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behavior so different from other people’s behavior that it violates a n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rms vary from culture to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nemonic device used to remember the four attributes of a psychological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adap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justif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tur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derstanding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29: Introduction to Psychologic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7:26Z</dcterms:created>
  <dc:creator>Home</dc:creator>
  <dc:description/>
  <dc:language>en-US</dc:language>
  <cp:lastModifiedBy>Meghan Reilly</cp:lastModifiedBy>
  <dcterms:modified xsi:type="dcterms:W3CDTF">2011-11-15T18:52:22Z</dcterms:modified>
  <cp:revision>48</cp:revision>
  <dc:subject/>
  <dc:title>Psychology</dc:title>
</cp:coreProperties>
</file>